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5A40-59A2-4BEF-8AF2-4EFB783E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76E-DA88-4A41-BC64-06B17092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F71D-6496-426E-BBBA-B9DCFCD7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6347-31A2-46C2-8AE0-C0E28BA8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EA57-2BDD-4C80-B958-D32A3F64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7745-8F09-453F-A386-A9618621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6668-161B-4B5B-B69C-F0B480A6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2A0A-7F8A-4EB6-A9A6-4929B4B1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E6B1-4944-4DE1-B01F-BBC80E82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A6EE-1763-4DC5-B63C-4C66D8CF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1DE3-7A30-4F40-A740-11851563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A398-E230-4984-BB43-D1461BFB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6D4F-CE91-4566-A417-498C7674943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17440" y="1125360"/>
            <a:ext cx="8675640" cy="532800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4554360" y="3357720"/>
            <a:ext cx="42706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س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خلاص العبادة ظاهراً وباطنأ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خلاص الدعاء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3429000"/>
            <a:ext cx="4270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أمر بالفحش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تخاذ الشيطان اولياء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4898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23920" y="1700280"/>
            <a:ext cx="869148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ليد المحمود : ما كان موافق للكتاب و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تقليد المذموم : ما كان مخالف للكتب و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3"/>
          <a:stretch/>
        </p:blipFill>
        <p:spPr>
          <a:xfrm>
            <a:off x="1170000" y="1052640"/>
            <a:ext cx="7745400" cy="635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3568680" y="2747880"/>
            <a:ext cx="5295960" cy="609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"/>
          <p:cNvPicPr/>
          <p:nvPr/>
        </p:nvPicPr>
        <p:blipFill>
          <a:blip r:embed="rId5"/>
          <a:stretch/>
        </p:blipFill>
        <p:spPr>
          <a:xfrm>
            <a:off x="2273400" y="4538520"/>
            <a:ext cx="6627600" cy="54612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3500280"/>
            <a:ext cx="86914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ما عملوا من أسباب الغوا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5300640"/>
            <a:ext cx="8691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كما أنشأكم أول مرة يبعثكم أحياء فترجعون إليه للحسا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6"/>
          <a:stretch/>
        </p:blipFill>
        <p:spPr>
          <a:xfrm>
            <a:off x="250920" y="1765440"/>
            <a:ext cx="864216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7920"/>
            <a:ext cx="9153360" cy="133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8840" y="1752480"/>
            <a:ext cx="86040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23760" y="907920"/>
            <a:ext cx="90964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0" y="776160"/>
            <a:ext cx="9132840" cy="92412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2987640" y="1052640"/>
            <a:ext cx="4376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شروط قبول العمل الصال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73288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250920" y="3357720"/>
            <a:ext cx="8685000" cy="35002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95280" y="50864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عد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559116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كل وقت سجود أو مكا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468360" y="595152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هداهم الله في الدني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468360" y="638316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طاعوا الشياطين فيما يخالف ما شرعه الله تعالى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دلائل الجهل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حتجاج بفعل الآباء وتقليدهم في الباطل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987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كمال حكمته تعالى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لا يأمر عباده بالفحشاء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أمر ال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عدل في العبادات والمعامل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له لا يأمر عباده بالفحشاء  ويأمر بالعدل في العبادات والمعاملات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ال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2"/>
          <a:stretch/>
        </p:blipFill>
        <p:spPr>
          <a:xfrm>
            <a:off x="426960" y="3452760"/>
            <a:ext cx="8429760" cy="57168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250920" y="414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الأوامر الرباني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دل ورحمة وتحقق سعادة الدنيا وفلاح الآخر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5100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تقبل العبادة إلا بشرط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26"/>
          <p:cNvSpPr/>
          <p:nvPr/>
        </p:nvSpPr>
        <p:spPr>
          <a:xfrm flipH="1">
            <a:off x="4593960" y="494172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27"/>
          <p:cNvSpPr/>
          <p:nvPr/>
        </p:nvSpPr>
        <p:spPr>
          <a:xfrm flipH="1">
            <a:off x="1499760" y="523080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8"/>
          <p:cNvCxnSpPr/>
          <p:nvPr/>
        </p:nvCxnSpPr>
        <p:spPr>
          <a:xfrm>
            <a:off x="7980120" y="523872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6443640" y="5540400"/>
            <a:ext cx="2413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وافقته للكتاب والس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37"/>
          <p:cNvCxnSpPr/>
          <p:nvPr/>
        </p:nvCxnSpPr>
        <p:spPr>
          <a:xfrm>
            <a:off x="1499760" y="52304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419040" y="5611680"/>
            <a:ext cx="16318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خلاصه 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ضلال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طاعة الشيطان والإصغاء إلى وساوس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1987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خلق العباد وجعل منه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ؤمن والكاف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الكفار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تقربون إلى الله بالباطل ويحسبون أنهم على هد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4067280" y="1197000"/>
            <a:ext cx="4724280" cy="55872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260280" y="1916280"/>
            <a:ext cx="8607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إنسان مخير ومس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هو مختار، له إرادة، وله مشيئة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لكن هذه الأشياء التي تقع منه لا تقع إلا بعد سبق القدر من الله به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